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4AD9-B493-4DED-9344-ED0844D115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 to Pece editorial on generative models. Maybe put all references at the end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definitions of joint and conditional prob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tress that there are invertible models like encoders and deco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and variance are first and second order statistics – perhaps explain these term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7A9-FAD5-4744-966F-5FB5EFF8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1B7-B8C6-400E-9AB8-CE4C0F3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F98-B72B-456C-BF17-CF81E4AB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7E1-F8CB-41C4-9D32-40B784D0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007C-7DDE-4DDD-A5BE-9E1F6B51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01FD-D512-4211-BFCB-EC95485B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1B46-6C11-4447-A179-AADF59CF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6119-71B9-4082-9A55-1DEB0F0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85C1-A353-4EE8-8189-843C921E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A65F-B231-4A84-8C8E-F66D8FCE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0132-2CC0-4BCB-9AA7-4A34A2E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587-A2C1-4C59-AD51-D1AE899F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6759-A7F1-4134-A050-AA67A5B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9653-6E04-439B-A239-B6319F1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448F-C36F-42A6-AAE5-B7717299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7600-40DA-4AC3-B06F-4C7EFED8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0460-DF60-44D2-97C4-8784E603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775-ECAF-4032-8F6A-06016B81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4E2-4B5E-40B8-8CF3-377860D1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7FB-3A12-4DC5-A4FE-83A92073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A85-EEE1-4C40-85B6-49170988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50F-C17A-480B-899D-1CE3C20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4D3-910D-4E26-88A5-3ACB2EAB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BD5-24F3-47DA-8D1C-D95E625D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94F0-A57D-4D00-9D38-5A6C3B06B45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AB19-F2CE-4FC1-B880-494A723896E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spati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 we can build mean and variance maps across our image training data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x_mean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30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20" name="x_std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3047760" cy="2857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00360" y="42022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2400" y="4267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20040" y="6394320"/>
            <a:ext cx="22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ark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low vari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spati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51814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generate example images by sampling from the distribution set specified by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pixel is treated independent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x_gen1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2819520" cy="2643480"/>
          </a:xfrm>
          <a:prstGeom prst="rect">
            <a:avLst/>
          </a:prstGeom>
          <a:ln w="0">
            <a:noFill/>
          </a:ln>
        </p:spPr>
      </p:pic>
      <p:pic>
        <p:nvPicPr>
          <p:cNvPr id="227" name="x_gen4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28195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tempor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can use hidden variables to represent temporal transitions between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will see this later in the course for Hidden Markov Models (HMM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now, assume that we can specify a model whereby if we are in some state s at time t (s</a:t>
            </a:r>
            <a:r>
              <a:rPr b="0" lang="en-GB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 then we can predict what state we will be in at time t+1 (s</a:t>
            </a:r>
            <a:r>
              <a:rPr b="0" lang="en-GB" sz="28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tempor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represent this as a matrix of state trans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assume we can map hidden state to our observable data space (like the traffic light examp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52480" y="4343400"/>
          <a:ext cx="2590920" cy="231156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1144800" y="44956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5000" y="609588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21480" y="56386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5000" y="5029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8544800">
            <a:off x="1858320" y="393444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8534600">
            <a:off x="3293640" y="394740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556200">
            <a:off x="3714120" y="383292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8556200">
            <a:off x="2418480" y="383292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638680" y="4343400"/>
          <a:ext cx="1943280" cy="231156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5078520" y="45226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99080" y="612288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55200" y="56656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9080" y="5056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8544800">
            <a:off x="5754240" y="3951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8544800">
            <a:off x="6327360" y="387612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AMBER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8544800">
            <a:off x="6942600" y="38862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Times New Roman"/>
              </a:rPr>
              <a:t>GREEN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tempor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 tracker prediction using Variable Length Markov Models (Sage, 200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1" name="vlmm_fig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4191120" cy="32529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637600" y="3809880"/>
            <a:ext cx="2623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Times New Roman"/>
              </a:rPr>
              <a:t>Green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stant veloc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lue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stant acceler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d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First order H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Times New Roman"/>
              </a:rPr>
              <a:t>Purple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Variable Length 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der of a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refer to different thing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computational complexity of the underlying hidden process e.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th order polynomial to describe mo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# of mixtures in a Mixture of Gaussians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bility of a model to generate data based on the amount of previous data available e.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dicting state using data from previous state  only (first order) or history of last 10 states (tenth ord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and Discriminative models – A Bayesian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346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 a model for observable data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and a set of classification labels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 discriminative model estimates p(c|x) from the training data (using supervised learning like our neural network from an earlier slid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 a generative mod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represents the hidden vari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stimate the class probabilities p(c) someh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alculate/estimate joint probabilities p(x,c) from the training data by some (as yet unspecified) pro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alculate the conditional probabilities p(c|x) using Bayes rule which ‘assigns’ each piece of data to a class (classifier par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enerate using p(c) and ‘sampling’ p(x,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s: Bayesian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2514600"/>
            <a:ext cx="849636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ly model class-conditional densities and pri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777960" cy="320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286000" y="4419720"/>
            <a:ext cx="3809880" cy="807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819520" y="3200400"/>
            <a:ext cx="1143000" cy="320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914400" y="36576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n evaluate posterior probabilities using Bayes theor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54864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will see this in action in later lectur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6960" y="632448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dapted from a slide © Chris Bishop 2004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is all this relevant to Cognitive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cause Generative Models allow us to build our perception guided by expectation e.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predict the appearance of an object based on our knowledge of what it looked like previously (e.g. Murase and Nayar from lecture 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predict where an object may appear in the next time step (constraining our search spa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build models that depend on context (Sage, 200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enerative models link observable data to (hidden) underlying proce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model both spatial and temporal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 the Bayesian view we model the class priors and the class conditional dependencies to evaluate likely interpretations of th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pers of interes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eveloping context sensitive HMM gesture recognition”, Sage, K, Howell, A, J and Buxton H, International Workshop on Gesture Recognition (GW), Genoa,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earning temporal structure for task based control”, Sage, K et al, in preparation (available at http://www.informatics.sussex.ac.uk/users/khs2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tive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generative mode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non-mathematical 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ayesian view (need to consider in conjunction with material from later lectu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are they relevant to Cognitive Computer Vis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the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are they so important to Cognitive Vis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generative models?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non-mathematical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ssume you have some observation data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efinition adapted from Pe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enerative models include variables at different levels of abstraction (you can think of these as hidden variables or variables that describe some underlying proces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model is invertible so we can specify the values of the hidden variables and generate observation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o generative models can generate examples of the data that they repres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simple generative model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71000" y="2438280"/>
            <a:ext cx="6472440" cy="4267440"/>
            <a:chOff x="1071000" y="2438280"/>
            <a:chExt cx="6472440" cy="4267440"/>
          </a:xfrm>
        </p:grpSpPr>
        <p:grpSp>
          <p:nvGrpSpPr>
            <p:cNvPr id="108" name=""/>
            <p:cNvGrpSpPr/>
            <p:nvPr/>
          </p:nvGrpSpPr>
          <p:grpSpPr>
            <a:xfrm>
              <a:off x="1752480" y="2819520"/>
              <a:ext cx="5790960" cy="3886200"/>
              <a:chOff x="1752480" y="2819520"/>
              <a:chExt cx="5790960" cy="3886200"/>
            </a:xfrm>
          </p:grpSpPr>
          <p:sp>
            <p:nvSpPr>
              <p:cNvPr id="109" name=""/>
              <p:cNvSpPr/>
              <p:nvPr/>
            </p:nvSpPr>
            <p:spPr>
              <a:xfrm>
                <a:off x="1891800" y="3313800"/>
                <a:ext cx="767520" cy="706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91800" y="5080320"/>
                <a:ext cx="767520" cy="7066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91800" y="4161600"/>
                <a:ext cx="767520" cy="706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2480" y="3101760"/>
                <a:ext cx="1046520" cy="28972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70800" y="5999040"/>
                <a:ext cx="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80320" y="5999040"/>
                <a:ext cx="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24880" y="3172680"/>
                <a:ext cx="2930400" cy="275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31720" y="2819520"/>
                <a:ext cx="1046520" cy="988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</a:rPr>
                  <a:t>STOP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96920" y="4020480"/>
                <a:ext cx="1046520" cy="988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01560" y="5433480"/>
                <a:ext cx="1046520" cy="98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</a:rPr>
                  <a:t>GO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636360" y="4020480"/>
                <a:ext cx="1046520" cy="988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9367800">
                <a:off x="4682520" y="3243240"/>
                <a:ext cx="348480" cy="282240"/>
              </a:xfrm>
              <a:prstGeom prst="leftArrow">
                <a:avLst>
                  <a:gd name="adj1" fmla="val 50000"/>
                  <a:gd name="adj2" fmla="val 308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4597400">
                <a:off x="6669360" y="3704040"/>
                <a:ext cx="353160" cy="279000"/>
              </a:xfrm>
              <a:prstGeom prst="leftArrow">
                <a:avLst>
                  <a:gd name="adj1" fmla="val 50000"/>
                  <a:gd name="adj2" fmla="val 31645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0491200">
                <a:off x="6148080" y="5645520"/>
                <a:ext cx="348480" cy="282600"/>
              </a:xfrm>
              <a:prstGeom prst="leftArrow">
                <a:avLst>
                  <a:gd name="adj1" fmla="val 50000"/>
                  <a:gd name="adj2" fmla="val 3082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4990800">
                <a:off x="4087440" y="5047200"/>
                <a:ext cx="353520" cy="278640"/>
              </a:xfrm>
              <a:prstGeom prst="leftArrow">
                <a:avLst>
                  <a:gd name="adj1" fmla="val 50000"/>
                  <a:gd name="adj2" fmla="val 31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729160" y="3101760"/>
                <a:ext cx="2372400" cy="4946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659320" y="4515120"/>
                <a:ext cx="97668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2659680" y="5433120"/>
                <a:ext cx="2478240" cy="7066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>
                <a:off x="2729160" y="3737880"/>
                <a:ext cx="3837600" cy="56520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92320" y="4089600"/>
                <a:ext cx="878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TO GO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42480" y="4059000"/>
                <a:ext cx="996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TO STOP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753800" y="4809600"/>
                <a:ext cx="1824120" cy="4118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2659680" y="4656240"/>
                <a:ext cx="2093040" cy="5648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26840" y="2819520"/>
                <a:ext cx="0" cy="3886200"/>
              </a:xfrm>
              <a:prstGeom prst="line">
                <a:avLst/>
              </a:prstGeom>
              <a:ln cap="rnd" w="5076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071000" y="243828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8920" y="2438280"/>
              <a:ext cx="13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es it meet the criteria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040" y="2819520"/>
            <a:ext cx="4115160" cy="2895480"/>
            <a:chOff x="914040" y="2819520"/>
            <a:chExt cx="4115160" cy="2895480"/>
          </a:xfrm>
        </p:grpSpPr>
        <p:grpSp>
          <p:nvGrpSpPr>
            <p:cNvPr id="137" name=""/>
            <p:cNvGrpSpPr/>
            <p:nvPr/>
          </p:nvGrpSpPr>
          <p:grpSpPr>
            <a:xfrm>
              <a:off x="1371600" y="3124080"/>
              <a:ext cx="3657600" cy="2590920"/>
              <a:chOff x="1371600" y="3124080"/>
              <a:chExt cx="3657600" cy="2590920"/>
            </a:xfrm>
          </p:grpSpPr>
          <p:sp>
            <p:nvSpPr>
              <p:cNvPr id="138" name=""/>
              <p:cNvSpPr/>
              <p:nvPr/>
            </p:nvSpPr>
            <p:spPr>
              <a:xfrm>
                <a:off x="1459440" y="3453480"/>
                <a:ext cx="484560" cy="47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59440" y="4631400"/>
                <a:ext cx="484560" cy="4708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59440" y="4019040"/>
                <a:ext cx="484560" cy="470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71600" y="3312360"/>
                <a:ext cx="660960" cy="19317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35840" y="524412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67960" y="524412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69920" y="3359520"/>
                <a:ext cx="1850760" cy="1837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42680" y="31240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STOP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68240" y="392472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86960" y="4866840"/>
                <a:ext cx="660960" cy="659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GO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61400" y="392472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9367800">
                <a:off x="3222000" y="340596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597400">
                <a:off x="4470480" y="371880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491200">
                <a:off x="4147920" y="500796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4990800">
                <a:off x="2839680" y="461376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988280" y="3312360"/>
                <a:ext cx="1498320" cy="3297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944000" y="4254480"/>
                <a:ext cx="61668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1944360" y="4866840"/>
                <a:ext cx="1565280" cy="4708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987920" y="3735720"/>
                <a:ext cx="2423880" cy="376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18640" y="4057200"/>
                <a:ext cx="573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GO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58160" y="4038840"/>
                <a:ext cx="642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STOP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267360" y="4451040"/>
                <a:ext cx="1152000" cy="2743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1944360" y="4348800"/>
                <a:ext cx="1321920" cy="3765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29280" y="3124080"/>
                <a:ext cx="0" cy="2590920"/>
              </a:xfrm>
              <a:prstGeom prst="line">
                <a:avLst/>
              </a:prstGeom>
              <a:ln cap="rnd" w="5076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914040" y="281952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7120" y="28195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410080" y="2895120"/>
            <a:ext cx="3733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 it contains hidden varia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it inverti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4000" y="5867280"/>
            <a:ext cx="708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ES – it’s a Generative Model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we haven’t said how we learned the underlying process 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contras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10080" y="2895120"/>
            <a:ext cx="3733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 it contains hidden varia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it inverti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53360" y="5638680"/>
            <a:ext cx="77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– We can train this simple neural network as a classifi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we cannot recover observation (input) data from a knowledge o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y the output or hidden layers. This is a discriminative mode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371600" y="2819520"/>
            <a:ext cx="3729960" cy="2286000"/>
            <a:chOff x="1371600" y="2819520"/>
            <a:chExt cx="3729960" cy="2286000"/>
          </a:xfrm>
        </p:grpSpPr>
        <p:sp>
          <p:nvSpPr>
            <p:cNvPr id="170" name=""/>
            <p:cNvSpPr/>
            <p:nvPr/>
          </p:nvSpPr>
          <p:spPr>
            <a:xfrm flipH="1">
              <a:off x="1702800" y="4195800"/>
              <a:ext cx="1331640" cy="484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371600" y="2819520"/>
              <a:ext cx="3729960" cy="2286000"/>
              <a:chOff x="1371600" y="2819520"/>
              <a:chExt cx="3729960" cy="2286000"/>
            </a:xfrm>
          </p:grpSpPr>
          <p:sp>
            <p:nvSpPr>
              <p:cNvPr id="172" name=""/>
              <p:cNvSpPr/>
              <p:nvPr/>
            </p:nvSpPr>
            <p:spPr>
              <a:xfrm>
                <a:off x="1371600" y="28195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85640" y="28195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76360" y="28195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19160" y="37339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52480" y="37339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71600" y="46483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5640" y="46483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76360" y="46483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88760" y="3267000"/>
                <a:ext cx="203040" cy="484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88760" y="3267000"/>
                <a:ext cx="1184040" cy="552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079360" y="3281400"/>
                <a:ext cx="444240" cy="4698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23960" y="3294000"/>
                <a:ext cx="442440" cy="457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160000" y="3294000"/>
                <a:ext cx="1331640" cy="538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3155400" y="3294000"/>
                <a:ext cx="348840" cy="471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607400" y="4222800"/>
                <a:ext cx="363240" cy="417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85760" y="4208400"/>
                <a:ext cx="496440" cy="444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98360" y="4208400"/>
                <a:ext cx="1466640" cy="457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77600" y="4195800"/>
                <a:ext cx="496440" cy="4698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14360" y="4222800"/>
                <a:ext cx="377640" cy="430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35000" y="2895480"/>
                <a:ext cx="1366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Arial"/>
                  </a:rPr>
                  <a:t>OUTPUT LAYER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52680" y="3809880"/>
                <a:ext cx="13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Arial"/>
                  </a:rPr>
                  <a:t>HIDDEN LAYER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34640" y="4724280"/>
                <a:ext cx="11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Arial"/>
                  </a:rPr>
                  <a:t>INPUT LAYER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s can be generative in different capacities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ight have a model which represents spatial structure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emporal structure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both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some other aspect of an observable data s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n’t matter as long as the 2 key criteria are m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spati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47920" y="2514600"/>
            <a:ext cx="2895480" cy="2590560"/>
            <a:chOff x="1447920" y="2514600"/>
            <a:chExt cx="2895480" cy="2590560"/>
          </a:xfrm>
        </p:grpSpPr>
        <p:pic>
          <p:nvPicPr>
            <p:cNvPr id="198" name="shrub2_1" descr=""/>
            <p:cNvPicPr/>
            <p:nvPr/>
          </p:nvPicPr>
          <p:blipFill>
            <a:blip r:embed="rId1"/>
            <a:stretch/>
          </p:blipFill>
          <p:spPr>
            <a:xfrm>
              <a:off x="1447920" y="2514600"/>
              <a:ext cx="144792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shrub2_10" descr=""/>
            <p:cNvPicPr/>
            <p:nvPr/>
          </p:nvPicPr>
          <p:blipFill>
            <a:blip r:embed="rId2"/>
            <a:stretch/>
          </p:blipFill>
          <p:spPr>
            <a:xfrm>
              <a:off x="2895840" y="2514600"/>
              <a:ext cx="144756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shrub2_18" descr=""/>
            <p:cNvPicPr/>
            <p:nvPr/>
          </p:nvPicPr>
          <p:blipFill>
            <a:blip r:embed="rId3"/>
            <a:stretch/>
          </p:blipFill>
          <p:spPr>
            <a:xfrm>
              <a:off x="1447920" y="3787200"/>
              <a:ext cx="144792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shrub2_25" descr=""/>
            <p:cNvPicPr/>
            <p:nvPr/>
          </p:nvPicPr>
          <p:blipFill>
            <a:blip r:embed="rId4"/>
            <a:stretch/>
          </p:blipFill>
          <p:spPr>
            <a:xfrm>
              <a:off x="2895840" y="3797640"/>
              <a:ext cx="1447560" cy="130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800600" y="2514600"/>
            <a:ext cx="2743200" cy="2571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51814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ining data is a set of images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courtesy CMU databas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form an independent model of each pixel’s statistical properties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spati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ny pixel consider a list of its grey level values and calculate the mean and variance (these will be our hidden valu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114800"/>
            <a:ext cx="3733920" cy="1973160"/>
          </a:xfrm>
          <a:prstGeom prst="rect">
            <a:avLst/>
          </a:prstGeom>
          <a:solidFill>
            <a:srgbClr val="99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ixel 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,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{25,20,21,23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8,30,20,22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9,21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 23.9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 14.766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4114800"/>
            <a:ext cx="3733920" cy="1922760"/>
          </a:xfrm>
          <a:prstGeom prst="rect">
            <a:avLst/>
          </a:prstGeom>
          <a:solidFill>
            <a:srgbClr val="99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7150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4876920"/>
            <a:ext cx="0" cy="838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4876920"/>
            <a:ext cx="0" cy="838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876920"/>
            <a:ext cx="0" cy="838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5105520"/>
            <a:ext cx="762120" cy="0"/>
          </a:xfrm>
          <a:prstGeom prst="line">
            <a:avLst/>
          </a:prstGeom>
          <a:ln w="93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4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82400" y="56386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6386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2:15:39Z</dcterms:modified>
  <cp:revision>44</cp:revision>
  <dc:subject/>
  <dc:title>Programming Techniques 804G5</dc:title>
</cp:coreProperties>
</file>